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3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8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4.xml.rels" ContentType="application/vnd.openxmlformats-package.relationships+xml"/>
  <Override PartName="/ppt/slides/_rels/slide5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7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5116A-B920-4EC9-A2A8-8CD38F3E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85800" y="423540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964FD-B933-496C-9E9D-9FF9AE77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604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5812C-3AD3-4CD0-9191-56EA5EF2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1848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5152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8580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1848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95152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49131-F0E6-4C5A-84A6-908CCFA6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6E74-3335-4D7A-ADDE-6EF59C11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FD4A-FAC6-4A6A-8CD2-8E5F8C2B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7833-402E-4767-89C6-1735671C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D3F9-A89D-4BB8-87E7-32B2684E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67D9-FBEC-41B4-A8BD-3A5C4C12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81120"/>
            <a:ext cx="7786800" cy="54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0B53-6867-4A61-BEF2-102332AE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3F5E-817A-4CB1-924A-5DF5EF96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F469-6557-4647-8A34-B1BD9E6F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604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8927-2BF2-4295-B669-4E92B073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ADA4-1102-4E3E-BB6C-D671C6DC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23540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AFDA-5409-4852-8F57-2B706DCB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604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B9C4-D674-4D5E-B414-1256E4C7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848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5152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848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5152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17CF-087A-4024-AD54-3A6FFD2D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3D5E2-AC7D-4A74-9819-D08E46CB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25B1C-FCA6-436D-B5D5-58BA31CB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AA3F6-1539-435C-8C17-D7EF2CA8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85800" y="681120"/>
            <a:ext cx="7786800" cy="54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4CFA9-DCA4-4A86-8FBF-A027DAB5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EE500-129D-4145-B793-CE2DAAC4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604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0049-6B4E-4293-8A61-F4697BDC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2E8AE-BF8F-4F9C-AB0C-FAF837DE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31400" cy="6845400"/>
              <a:chOff x="0" y="0"/>
              <a:chExt cx="9131400" cy="68454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31400" cy="157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688080"/>
                <a:ext cx="9131400" cy="157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58240" y="0"/>
                <a:ext cx="171360" cy="684540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e5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173160" cy="684216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e5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406440" y="206280"/>
              <a:ext cx="8359560" cy="1665360"/>
              <a:chOff x="406440" y="206280"/>
              <a:chExt cx="8359560" cy="166536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406440" y="646200"/>
                <a:ext cx="8359560" cy="1225440"/>
                <a:chOff x="406440" y="646200"/>
                <a:chExt cx="8359560" cy="1225440"/>
              </a:xfrm>
            </p:grpSpPr>
            <p:grpSp>
              <p:nvGrpSpPr>
                <p:cNvPr id="8" name="Group 10"/>
                <p:cNvGrpSpPr/>
                <p:nvPr/>
              </p:nvGrpSpPr>
              <p:grpSpPr>
                <a:xfrm>
                  <a:off x="407880" y="660240"/>
                  <a:ext cx="8342280" cy="1195560"/>
                  <a:chOff x="407880" y="660240"/>
                  <a:chExt cx="8342280" cy="1195560"/>
                </a:xfrm>
              </p:grpSpPr>
              <p:sp>
                <p:nvSpPr>
                  <p:cNvPr id="9" name="Line 11"/>
                  <p:cNvSpPr/>
                  <p:nvPr/>
                </p:nvSpPr>
                <p:spPr>
                  <a:xfrm>
                    <a:off x="407880" y="660240"/>
                    <a:ext cx="83361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" name="Line 12"/>
                  <p:cNvSpPr/>
                  <p:nvPr/>
                </p:nvSpPr>
                <p:spPr>
                  <a:xfrm>
                    <a:off x="407880" y="957240"/>
                    <a:ext cx="83361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Line 13"/>
                  <p:cNvSpPr/>
                  <p:nvPr/>
                </p:nvSpPr>
                <p:spPr>
                  <a:xfrm>
                    <a:off x="407880" y="1258920"/>
                    <a:ext cx="831852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Line 14"/>
                  <p:cNvSpPr/>
                  <p:nvPr/>
                </p:nvSpPr>
                <p:spPr>
                  <a:xfrm>
                    <a:off x="407880" y="1555920"/>
                    <a:ext cx="834228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Line 15"/>
                  <p:cNvSpPr/>
                  <p:nvPr/>
                </p:nvSpPr>
                <p:spPr>
                  <a:xfrm>
                    <a:off x="407880" y="1855800"/>
                    <a:ext cx="82965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" name="Rectangle 16"/>
                <p:cNvSpPr/>
                <p:nvPr/>
              </p:nvSpPr>
              <p:spPr>
                <a:xfrm>
                  <a:off x="406440" y="646200"/>
                  <a:ext cx="111240" cy="1225440"/>
                </a:xfrm>
                <a:prstGeom prst="rect">
                  <a:avLst/>
                </a:prstGeom>
                <a:solidFill>
                  <a:srgbClr val="cf0e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1ce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8655120" y="646200"/>
                  <a:ext cx="110880" cy="1225440"/>
                </a:xfrm>
                <a:prstGeom prst="rect">
                  <a:avLst/>
                </a:prstGeom>
                <a:solidFill>
                  <a:srgbClr val="cf0e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1ce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Group 18"/>
              <p:cNvGrpSpPr/>
              <p:nvPr/>
            </p:nvGrpSpPr>
            <p:grpSpPr>
              <a:xfrm>
                <a:off x="698400" y="206280"/>
                <a:ext cx="7767720" cy="1462320"/>
                <a:chOff x="698400" y="206280"/>
                <a:chExt cx="7767720" cy="1462320"/>
              </a:xfrm>
            </p:grpSpPr>
            <p:grpSp>
              <p:nvGrpSpPr>
                <p:cNvPr id="17" name="Group 19"/>
                <p:cNvGrpSpPr/>
                <p:nvPr/>
              </p:nvGrpSpPr>
              <p:grpSpPr>
                <a:xfrm>
                  <a:off x="698400" y="938160"/>
                  <a:ext cx="550800" cy="730440"/>
                  <a:chOff x="698400" y="938160"/>
                  <a:chExt cx="550800" cy="730440"/>
                </a:xfrm>
              </p:grpSpPr>
              <p:sp>
                <p:nvSpPr>
                  <p:cNvPr id="18" name="Freeform 20"/>
                  <p:cNvSpPr/>
                  <p:nvPr/>
                </p:nvSpPr>
                <p:spPr>
                  <a:xfrm>
                    <a:off x="971640" y="968400"/>
                    <a:ext cx="1440" cy="57132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963720" y="938160"/>
                    <a:ext cx="285480" cy="1890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698400" y="1465200"/>
                    <a:ext cx="284400" cy="2034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686720" y="484200"/>
                  <a:ext cx="779400" cy="826920"/>
                  <a:chOff x="7686720" y="484200"/>
                  <a:chExt cx="779400" cy="8269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>
                    <a:off x="7967520" y="631800"/>
                    <a:ext cx="1800" cy="55548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7686720" y="1114560"/>
                    <a:ext cx="291960" cy="19656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7964640" y="484200"/>
                    <a:ext cx="482400" cy="31608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8454960" y="495360"/>
                    <a:ext cx="1800" cy="58104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8175600" y="1017720"/>
                    <a:ext cx="290520" cy="19512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1413000" y="206280"/>
                  <a:ext cx="796680" cy="836640"/>
                  <a:chOff x="1413000" y="206280"/>
                  <a:chExt cx="796680" cy="8366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>
                    <a:off x="1704960" y="355680"/>
                    <a:ext cx="1440" cy="56196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1413000" y="841320"/>
                    <a:ext cx="303120" cy="2016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1697040" y="206280"/>
                    <a:ext cx="495360" cy="32544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2198520" y="216000"/>
                    <a:ext cx="1800" cy="57780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1906560" y="714240"/>
                    <a:ext cx="303120" cy="2016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f91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f0e3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f91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1ce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1ce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5135-B7E0-414C-B60F-E72B82CC3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 type="ftr" idx="3"/>
          </p:nvPr>
        </p:nvSpPr>
        <p:spPr>
          <a:xfrm>
            <a:off x="3124080" y="63241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grpSp>
          <p:nvGrpSpPr>
            <p:cNvPr id="75" name="Group 3"/>
            <p:cNvGrpSpPr/>
            <p:nvPr/>
          </p:nvGrpSpPr>
          <p:grpSpPr>
            <a:xfrm>
              <a:off x="0" y="0"/>
              <a:ext cx="9131400" cy="6845400"/>
              <a:chOff x="0" y="0"/>
              <a:chExt cx="9131400" cy="6845400"/>
            </a:xfrm>
          </p:grpSpPr>
          <p:sp>
            <p:nvSpPr>
              <p:cNvPr id="76" name="Rectangle 4"/>
              <p:cNvSpPr/>
              <p:nvPr/>
            </p:nvSpPr>
            <p:spPr>
              <a:xfrm>
                <a:off x="0" y="0"/>
                <a:ext cx="9131400" cy="157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77" name="Rectangle 5"/>
              <p:cNvSpPr/>
              <p:nvPr/>
            </p:nvSpPr>
            <p:spPr>
              <a:xfrm>
                <a:off x="0" y="6688080"/>
                <a:ext cx="9131400" cy="157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78" name="Rectangle 6"/>
              <p:cNvSpPr/>
              <p:nvPr/>
            </p:nvSpPr>
            <p:spPr>
              <a:xfrm>
                <a:off x="8958240" y="0"/>
                <a:ext cx="171360" cy="684540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e5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79" name="Rectangle 7"/>
              <p:cNvSpPr/>
              <p:nvPr/>
            </p:nvSpPr>
            <p:spPr>
              <a:xfrm>
                <a:off x="0" y="0"/>
                <a:ext cx="173160" cy="684216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e5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Group 8"/>
            <p:cNvGrpSpPr/>
            <p:nvPr/>
          </p:nvGrpSpPr>
          <p:grpSpPr>
            <a:xfrm>
              <a:off x="406440" y="206280"/>
              <a:ext cx="8359560" cy="1665360"/>
              <a:chOff x="406440" y="206280"/>
              <a:chExt cx="8359560" cy="1665360"/>
            </a:xfrm>
          </p:grpSpPr>
          <p:grpSp>
            <p:nvGrpSpPr>
              <p:cNvPr id="81" name="Group 9"/>
              <p:cNvGrpSpPr/>
              <p:nvPr/>
            </p:nvGrpSpPr>
            <p:grpSpPr>
              <a:xfrm>
                <a:off x="406440" y="646200"/>
                <a:ext cx="8359560" cy="1225440"/>
                <a:chOff x="406440" y="646200"/>
                <a:chExt cx="8359560" cy="1225440"/>
              </a:xfrm>
            </p:grpSpPr>
            <p:grpSp>
              <p:nvGrpSpPr>
                <p:cNvPr id="82" name="Group 10"/>
                <p:cNvGrpSpPr/>
                <p:nvPr/>
              </p:nvGrpSpPr>
              <p:grpSpPr>
                <a:xfrm>
                  <a:off x="407880" y="660240"/>
                  <a:ext cx="8342280" cy="1195560"/>
                  <a:chOff x="407880" y="660240"/>
                  <a:chExt cx="8342280" cy="1195560"/>
                </a:xfrm>
              </p:grpSpPr>
              <p:sp>
                <p:nvSpPr>
                  <p:cNvPr id="83" name="Line 11"/>
                  <p:cNvSpPr/>
                  <p:nvPr/>
                </p:nvSpPr>
                <p:spPr>
                  <a:xfrm>
                    <a:off x="407880" y="660240"/>
                    <a:ext cx="83361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Line 12"/>
                  <p:cNvSpPr/>
                  <p:nvPr/>
                </p:nvSpPr>
                <p:spPr>
                  <a:xfrm>
                    <a:off x="407880" y="957240"/>
                    <a:ext cx="83361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Line 13"/>
                  <p:cNvSpPr/>
                  <p:nvPr/>
                </p:nvSpPr>
                <p:spPr>
                  <a:xfrm>
                    <a:off x="407880" y="1258920"/>
                    <a:ext cx="831852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Line 14"/>
                  <p:cNvSpPr/>
                  <p:nvPr/>
                </p:nvSpPr>
                <p:spPr>
                  <a:xfrm>
                    <a:off x="407880" y="1555920"/>
                    <a:ext cx="834228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Line 15"/>
                  <p:cNvSpPr/>
                  <p:nvPr/>
                </p:nvSpPr>
                <p:spPr>
                  <a:xfrm>
                    <a:off x="407880" y="1855800"/>
                    <a:ext cx="82965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" name="Rectangle 16"/>
                <p:cNvSpPr/>
                <p:nvPr/>
              </p:nvSpPr>
              <p:spPr>
                <a:xfrm>
                  <a:off x="406440" y="646200"/>
                  <a:ext cx="111240" cy="1225440"/>
                </a:xfrm>
                <a:prstGeom prst="rect">
                  <a:avLst/>
                </a:prstGeom>
                <a:solidFill>
                  <a:srgbClr val="cf0e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1ce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17"/>
                <p:cNvSpPr/>
                <p:nvPr/>
              </p:nvSpPr>
              <p:spPr>
                <a:xfrm>
                  <a:off x="8655120" y="646200"/>
                  <a:ext cx="110880" cy="1225440"/>
                </a:xfrm>
                <a:prstGeom prst="rect">
                  <a:avLst/>
                </a:prstGeom>
                <a:solidFill>
                  <a:srgbClr val="cf0e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1ce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18"/>
              <p:cNvGrpSpPr/>
              <p:nvPr/>
            </p:nvGrpSpPr>
            <p:grpSpPr>
              <a:xfrm>
                <a:off x="698400" y="206280"/>
                <a:ext cx="7767720" cy="1462320"/>
                <a:chOff x="698400" y="206280"/>
                <a:chExt cx="7767720" cy="1462320"/>
              </a:xfrm>
            </p:grpSpPr>
            <p:grpSp>
              <p:nvGrpSpPr>
                <p:cNvPr id="91" name="Group 19"/>
                <p:cNvGrpSpPr/>
                <p:nvPr/>
              </p:nvGrpSpPr>
              <p:grpSpPr>
                <a:xfrm>
                  <a:off x="698400" y="938160"/>
                  <a:ext cx="550800" cy="730440"/>
                  <a:chOff x="698400" y="938160"/>
                  <a:chExt cx="550800" cy="730440"/>
                </a:xfrm>
              </p:grpSpPr>
              <p:sp>
                <p:nvSpPr>
                  <p:cNvPr id="92" name="Freeform 20"/>
                  <p:cNvSpPr/>
                  <p:nvPr/>
                </p:nvSpPr>
                <p:spPr>
                  <a:xfrm>
                    <a:off x="971640" y="968400"/>
                    <a:ext cx="1440" cy="57132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21"/>
                  <p:cNvSpPr/>
                  <p:nvPr/>
                </p:nvSpPr>
                <p:spPr>
                  <a:xfrm>
                    <a:off x="963720" y="938160"/>
                    <a:ext cx="285480" cy="1890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22"/>
                  <p:cNvSpPr/>
                  <p:nvPr/>
                </p:nvSpPr>
                <p:spPr>
                  <a:xfrm>
                    <a:off x="698400" y="1465200"/>
                    <a:ext cx="284400" cy="2034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23"/>
                <p:cNvGrpSpPr/>
                <p:nvPr/>
              </p:nvGrpSpPr>
              <p:grpSpPr>
                <a:xfrm>
                  <a:off x="7686720" y="484200"/>
                  <a:ext cx="779400" cy="826920"/>
                  <a:chOff x="7686720" y="484200"/>
                  <a:chExt cx="779400" cy="826920"/>
                </a:xfrm>
              </p:grpSpPr>
              <p:sp>
                <p:nvSpPr>
                  <p:cNvPr id="96" name="Freeform 24"/>
                  <p:cNvSpPr/>
                  <p:nvPr/>
                </p:nvSpPr>
                <p:spPr>
                  <a:xfrm>
                    <a:off x="7967520" y="631800"/>
                    <a:ext cx="1800" cy="55548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25"/>
                  <p:cNvSpPr/>
                  <p:nvPr/>
                </p:nvSpPr>
                <p:spPr>
                  <a:xfrm>
                    <a:off x="7686720" y="1114560"/>
                    <a:ext cx="291960" cy="19656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26"/>
                  <p:cNvSpPr/>
                  <p:nvPr/>
                </p:nvSpPr>
                <p:spPr>
                  <a:xfrm>
                    <a:off x="7964640" y="484200"/>
                    <a:ext cx="482400" cy="31608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27"/>
                  <p:cNvSpPr/>
                  <p:nvPr/>
                </p:nvSpPr>
                <p:spPr>
                  <a:xfrm>
                    <a:off x="8454960" y="495360"/>
                    <a:ext cx="1800" cy="58104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28"/>
                  <p:cNvSpPr/>
                  <p:nvPr/>
                </p:nvSpPr>
                <p:spPr>
                  <a:xfrm>
                    <a:off x="8175600" y="1017720"/>
                    <a:ext cx="290520" cy="19512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29"/>
                <p:cNvGrpSpPr/>
                <p:nvPr/>
              </p:nvGrpSpPr>
              <p:grpSpPr>
                <a:xfrm>
                  <a:off x="1413000" y="206280"/>
                  <a:ext cx="796680" cy="836640"/>
                  <a:chOff x="1413000" y="206280"/>
                  <a:chExt cx="796680" cy="836640"/>
                </a:xfrm>
              </p:grpSpPr>
              <p:sp>
                <p:nvSpPr>
                  <p:cNvPr id="102" name="Freeform 30"/>
                  <p:cNvSpPr/>
                  <p:nvPr/>
                </p:nvSpPr>
                <p:spPr>
                  <a:xfrm>
                    <a:off x="1704960" y="355680"/>
                    <a:ext cx="1440" cy="56196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31"/>
                  <p:cNvSpPr/>
                  <p:nvPr/>
                </p:nvSpPr>
                <p:spPr>
                  <a:xfrm>
                    <a:off x="1413000" y="841320"/>
                    <a:ext cx="303120" cy="2016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32"/>
                  <p:cNvSpPr/>
                  <p:nvPr/>
                </p:nvSpPr>
                <p:spPr>
                  <a:xfrm>
                    <a:off x="1697040" y="206280"/>
                    <a:ext cx="495360" cy="32544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33"/>
                  <p:cNvSpPr/>
                  <p:nvPr/>
                </p:nvSpPr>
                <p:spPr>
                  <a:xfrm>
                    <a:off x="2198520" y="216000"/>
                    <a:ext cx="1800" cy="57780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34"/>
                  <p:cNvSpPr/>
                  <p:nvPr/>
                </p:nvSpPr>
                <p:spPr>
                  <a:xfrm>
                    <a:off x="1906560" y="714240"/>
                    <a:ext cx="303120" cy="2016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f91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f0e3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f91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1ce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1ce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1ce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ABBD-5D72-4BB7-BE27-809E0F57E4CC}" type="slidenum">
              <a:rPr b="0" lang="en-US" sz="1400" spc="-1" strike="noStrike">
                <a:solidFill>
                  <a:srgbClr val="c1ce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ickiblackwell.com/timer.html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9.xml"/><Relationship Id="rId3" Type="http://schemas.openxmlformats.org/officeDocument/2006/relationships/slide" Target="slide72.xml"/><Relationship Id="rId4" Type="http://schemas.openxmlformats.org/officeDocument/2006/relationships/slide" Target="slide101.xml"/><Relationship Id="rId5" Type="http://schemas.openxmlformats.org/officeDocument/2006/relationships/slide" Target="slide117.xml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ckinacparks.com/images/Mill_StoneLogo500HP.jpg&amp;imgrefurl=http://www.mackinacparks.com/parks/a-brief-history_576/&amp;h=474&amp;w=508&amp;sz=196&amp;hl=en&amp;start=110&amp;usg=__aw8k9It8mJD3UDrFcd0gO8xzBmk=&amp;tbnid=4p6qgVTRaId1SM:&amp;tbnh=122&amp;tbnw=131&amp;prev=/images?q=mill&amp;start=105&amp;gbv=2&amp;hl=en&amp;sa=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apelinks.com/images/photo-gallery/general/brewster_grist_mill.jpg&amp;imgrefurl=http://www.capelinks.com/cape-cod/photos/detail/10/&amp;h=480&amp;w=640&amp;sz=129&amp;hl=en&amp;start=2&amp;usg=__70lZn1cGcmEmAjltpWdKobYFwr8=&amp;tbnid=GTqV6ZQf-IThSM:&amp;tbnh=103&amp;tbnw=137&amp;prev=/images?q=mill&amp;gbv=2&amp;hl=en&amp;sa=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byteshuffler.com/rospo/blog/uploaded_images/MillHopper-740456.jpg&amp;imgrefurl=http://gardenplotter.com/rospo/blog/2006/04/mill-rite-grain-mill-from-retsel.html&amp;h=1024&amp;w=771&amp;sz=158&amp;hl=en&amp;start=24&amp;usg=__XEK1HUatDvp7MTteFF_4XoFukcw=&amp;tbnid=SA-Y5O-iwQr_QM:&amp;tbnh=150&amp;tbnw=113&amp;prev=/images?q=mill&amp;start=21&amp;gbv=2&amp;hl=en&amp;sa=N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sbmchina.com/products/images/grinding_mill.jpg&amp;imgrefurl=http://www.sbmchina.com/products/grinding_mill1.html&amp;h=595&amp;w=500&amp;sz=56&amp;hl=en&amp;start=53&amp;usg=__CGkTqNq-jvcdyKcSuXuaoofDyYw=&amp;tbnid=85pdYwEJeAzW_M:&amp;tbnh=135&amp;tbnw=113&amp;prev=/images?q=mill&amp;start=42&amp;gbv=2&amp;hl=en&amp;sa=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members.cox.net/blueridgecyclist/2005Trip/w-mabry%2520mill.jpg&amp;imgrefurl=http://members.cox.net/blueridgecyclist/2005Trip/index.htm&amp;h=480&amp;w=640&amp;sz=73&amp;hl=en&amp;start=72&amp;usg=__ZhL6bx-2Rc8oeNbniFTxT9Bm0FQ=&amp;tbnid=jc92A1AYsi4Y-M:&amp;tbnh=103&amp;tbnw=137&amp;prev=/images?q=mill&amp;start=63&amp;gbv=2&amp;hl=en&amp;sa=N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images.google.com/imgres?imgurl=http://www.normist.co.uk/gra/mill.gif&amp;imgrefurl=http://www.normist.co.uk/mills.htm&amp;h=570&amp;w=481&amp;sz=37&amp;hl=en&amp;start=15&amp;usg=___KY4P_99tDFTOlMV1RExmTp2k9Q=&amp;tbnid=h28qpOPUGDZXKM:&amp;tbnh=134&amp;tbnw=113&amp;prev=/images?q=mill&amp;gbv=2&amp;hl=en&amp;sa=N" TargetMode="External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orkseries.com/images/musician/Musician2.jpg&amp;imgrefurl=http://www.workseries.com/press.php&amp;h=2408&amp;w=1564&amp;sz=2679&amp;hl=en&amp;start=1&amp;usg=__TVJy5WXMgBtyIOM2VAEUDzLSjdw=&amp;tbnid=PbQX9zO8AAkY9M:&amp;tbnh=150&amp;tbnw=97&amp;prev=/images?q=musician&amp;gbv=2&amp;hl=en&amp;sa=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www.feightstudios.com/images/musician.jpg&amp;imgrefurl=http://www.feightstudios.com/etc.htm&amp;h=396&amp;w=279&amp;sz=30&amp;hl=en&amp;start=2&amp;usg=__34lQerSXtVSxQOEixUumIT7ZIw4=&amp;tbnid=W5VjLxmeYr9CmM:&amp;tbnh=124&amp;tbnw=87&amp;prev=/images?q=musician&amp;gbv=2&amp;hl=en&amp;sa=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winewriter.files.wordpress.com/2007/12/musician.jpg&amp;imgrefurl=http://winewriter.wordpress.com/2007/12/22/musicians-artists-and-writers-8x-more-likely-to-have-synesthesia-than-general-population/&amp;h=540&amp;w=720&amp;sz=99&amp;hl=en&amp;start=3&amp;usg=__VR0Og7h0EKuNwWkcFva-YBM1LUY=&amp;tbnid=XcXv20BJTTK-ZM:&amp;tbnh=105&amp;tbnw=140&amp;prev=/images?q=musician&amp;gbv=2&amp;hl=en&amp;sa=G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images.google.com/imgres?imgurl=http://esterofl.org/gecac/images/gen-musician.jpg&amp;imgrefurl=http://esterofl.org/gecac/links.htm&amp;h=1024&amp;w=819&amp;sz=204&amp;hl=en&amp;start=16&amp;usg=__vlOxNbVRiN52iCa-mhRSFsVgwmU=&amp;tbnid=nQ468fe4i4jazM:&amp;tbnh=150&amp;tbnw=120&amp;prev=/images?q=musician&amp;gbv=2&amp;hl=en&amp;sa=G" TargetMode="External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n should we work together?  When should we work alone?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9" name="Picture 17" descr="155858694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2133720"/>
            <a:ext cx="3094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1800" y="876240"/>
            <a:ext cx="7354800" cy="9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828800" y="38098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Write about a time when you worked with someone else to accomplish something.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8" name="Picture 18" descr="1558586946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05920" y="5791320"/>
            <a:ext cx="49356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600200" y="2209680"/>
          <a:ext cx="6095880" cy="3760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7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me animals work as teams.  What things might an animal need help with?  Today we will read about how some animals work together.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600200" y="2209680"/>
          <a:ext cx="6095880" cy="3760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7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me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imals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work as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eams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.  What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ings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might an animal need help with?  Today we will read about how some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imals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work together.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1800" y="708120"/>
            <a:ext cx="73548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523520" y="2285640"/>
            <a:ext cx="65660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plurals,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plural nouns that change spelling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880" y="2085840"/>
            <a:ext cx="8763120" cy="47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’m putting vases on a shelf above the dishe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Don’t go toward those bushes where the puppies play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he’ll have to spell the whole wor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y’ll dig enough holes to plant crop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cages are full of a bunch of bunnie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he’s making dresses like those from long ago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219320" y="2133720"/>
          <a:ext cx="3470040" cy="411480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            switc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s          switch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          bab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      bab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y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rumb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ies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uppl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 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entur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876920" y="2133720"/>
          <a:ext cx="2819160" cy="419076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r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kat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aw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ating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nimals Helping Animal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ily Fix-I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481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eff"/>
              </a:solidFill>
              <a:latin typeface="Arial"/>
            </a:endParaRPr>
          </a:p>
          <a:p>
            <a:pPr marL="481320" indent="-4813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the donkey blue the hurn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481320" indent="-4813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The donkey blew the horn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481320" indent="-4813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the dog stated to hum a tun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481320" indent="-4813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The dog started to hum a tune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481320" indent="-48132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 plural noun names more than one person, place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Some nouns change to a different word when they are made plural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rtnershi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t – ner – ship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tnership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happens when two or more people become partners and join together to share some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My best friend and I have a real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tnership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—we do everything together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tnership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of those people has lasted for many year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o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o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n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ee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o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u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n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ee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o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u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n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ee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ic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ist ways animals help each other.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2" name="Picture 17" descr="1558586946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81880" y="5867280"/>
            <a:ext cx="49392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676520" y="2057400"/>
          <a:ext cx="6095880" cy="42973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30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his week we read about animals helping each other to live and enjoy life.  Some formed a singing group, some cheered up unhappy friends, and some kept each other safe and clean.  Why is it often better to work with others?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01800" y="708120"/>
            <a:ext cx="73548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23520" y="2285640"/>
            <a:ext cx="65660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plurals, and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vocabulary words, and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7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ladies ate grapes and jellie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di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at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ap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elli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I put away the dishes, plates, and cup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I put away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h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lat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up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He gave the babies their lunches and drink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He gave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bi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thei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unch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rink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bunnies ran through the bushe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nni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ran through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sh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 – lu - tion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is the process of solving a problem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to that problem took a long tim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Mom came up with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by promising to drive me to the gam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7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is another word for nic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is the opposite of sol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se are men, women, boys, and girl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is another word for afrai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is something you rea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means about the same as well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is another word for most likely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ily Fix-I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donkey humed with Dog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91120" indent="-591120">
              <a:spcBef>
                <a:spcPts val="11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Donkey hummed with Dog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91120" indent="-5911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what fun they had. 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91120" indent="-5911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What fun they had!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219320" y="2133720"/>
          <a:ext cx="3470040" cy="411480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            switc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s          switch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          bab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      bab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y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rumb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ies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uppl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 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entur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4876920" y="2133720"/>
          <a:ext cx="2819160" cy="419076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r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kat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aw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ating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838080" y="2057400"/>
          <a:ext cx="3353040" cy="419112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il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usicia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citeme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robber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nster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4495680" y="2057400"/>
          <a:ext cx="3927600" cy="41911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artnership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lutio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rviva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iserab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rugg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epend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miliar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nsis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2895480" y="2133720"/>
          <a:ext cx="3470400" cy="437184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3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op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ig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ough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ared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robabl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hal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leas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view Gam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Vocabulary &amp; Amazing Words: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Jigwor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pelling Words: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Quia Gam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pelling City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High Frequency Words: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Hot Potatoes (fill-in-the-blank)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828720"/>
            <a:ext cx="778680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ceff"/>
                </a:solidFill>
                <a:latin typeface="Arial"/>
              </a:rPr>
              <a:t>Tests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ceff"/>
                </a:solidFill>
                <a:latin typeface="Arial"/>
              </a:rPr>
              <a:t>Story Tests: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f91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Reading Street for Students:  Reading Test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f91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R Test:  Bremen Town Musician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Other Reading Quiz # 904612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1ce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Write a story with a problem and solution.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7" name="Picture 17" descr="1558586946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05920" y="5867280"/>
            <a:ext cx="49356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lated Lin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219320" y="2209680"/>
          <a:ext cx="6476760" cy="4334040"/>
        </p:xfrm>
        <a:graphic>
          <a:graphicData uri="http://schemas.openxmlformats.org/drawingml/2006/table">
            <a:tbl>
              <a:tblPr/>
              <a:tblGrid>
                <a:gridCol w="6476760"/>
              </a:tblGrid>
              <a:tr h="43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tch animal baby to parent.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rm Anim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Animal Sounds- Who Said That?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hey're, Their, and There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rain Pop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he Bremen Town Musician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nline Story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rm Animal Online Book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rm Animal Brain Tease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nited Streaming Video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rm Animals: A First Look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mophones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Video Clip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tween the Lions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he Plural Gir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unBrain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0" name="Picture 9" descr="1558586946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05920" y="5867280"/>
            <a:ext cx="49356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rviv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r – vi - val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rvival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means the act of living on or of surviv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rvival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of the people in that fire depended on the firefighter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rvival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in a harsh place like the desert is difficult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lagged      -      skating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Both these words have a base word, an ending, and a spelling chang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Today you’ll learn about endings for plurals, words that mean “more than one.”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rs      -      wishe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To make words mean “more than one,” the ending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–s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–es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is adde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The ending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–s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is added to most words;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es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is added to words that end i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h, ch, tch, s, ss,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o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x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ity      -      citie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If a word ends in a consonant followed by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, you will change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to a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and ad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es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52480" y="2085840"/>
            <a:ext cx="274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patch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dish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ox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penn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farm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ranch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udd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glass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05160" y="2085840"/>
            <a:ext cx="33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part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lunch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mess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fox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skirt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cand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sash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od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pon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f0e30"/>
                </a:solidFill>
                <a:uFillTx/>
                <a:latin typeface="Arial"/>
                <a:hlinkClick r:id="rId1"/>
              </a:rPr>
              <a:t>Timer</a:t>
            </a:r>
            <a:endParaRPr b="0" lang="en-US" sz="5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ki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anc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ki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anc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ki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ircu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38080" y="2057400"/>
          <a:ext cx="3353040" cy="419112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il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usicia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citeme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robber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nster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495680" y="2057400"/>
          <a:ext cx="3927600" cy="41911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artnership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lutio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rviva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iserab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rugg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epend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miliar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nsis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anc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ki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ircu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an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52480" y="2085840"/>
            <a:ext cx="274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mix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corners 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germ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hitch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tori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ros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ish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perch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05160" y="2085840"/>
            <a:ext cx="33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center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lili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rmi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gerbil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puppi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bus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cent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t Talk About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rking Together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thor’s 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n author has a reason for writing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n author can write to inform or explain something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n author can write to entertain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n author can write to describe something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n author can write to convince the reader to think or act in a certain wa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The Mango Tree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ily Fix-I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eff"/>
                </a:solidFill>
                <a:latin typeface="Arial"/>
              </a:rPr>
              <a:t>the donkey didnt have any food</a:t>
            </a: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9100"/>
                </a:solidFill>
                <a:latin typeface="Arial"/>
              </a:rPr>
              <a:t>The donkey didn’t have any food.</a:t>
            </a: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eff"/>
                </a:solidFill>
                <a:latin typeface="Arial"/>
              </a:rPr>
              <a:t>he mised his lunchs</a:t>
            </a: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9100"/>
                </a:solidFill>
                <a:latin typeface="Arial"/>
              </a:rPr>
              <a:t>He missed his lunches.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singular noun names one person, place, animal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plural noun names more than one person, place, animal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ome nouns change spelling to name more than on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057040" y="2085840"/>
            <a:ext cx="2444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man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leaf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av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tooth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eth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woman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wife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v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0240" y="2133720"/>
            <a:ext cx="381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ildren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foot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eet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mouse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ce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goose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eese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loaf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av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Write about why partnerships are important.</a:t>
                      </a:r>
                      <a:r>
                        <a:rPr b="0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8" name="Picture 24" descr="1558586946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05920" y="5867280"/>
            <a:ext cx="49356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600200" y="2209680"/>
          <a:ext cx="6095880" cy="3602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day we will read about some animals traveling to Bremen Town.  We will read about how and why they work together.  When have you worked with others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895480" y="2133720"/>
          <a:ext cx="3470400" cy="437184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3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op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ig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ough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ared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robabl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hal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leas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600200" y="2209680"/>
          <a:ext cx="6095880" cy="3602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day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we will read about some animals traveling to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emen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wn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. 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will read about how and why they work together. 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en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have you worked with others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01800" y="708120"/>
            <a:ext cx="73548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6566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new amazing word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plural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uthor’s purpose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story structure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vocabulary, and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plural nouns that change spelling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1800" y="876240"/>
            <a:ext cx="7354800" cy="9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828800" y="38098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iserab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s – er – a – ble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f you a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serab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, you are very, very unhappy.  Something that is miserable causes great unhappines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Pat wa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serab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about missing school that day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ally has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serab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col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ugg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g – gle 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gg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, you work hard to do something difficult.  If you have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gg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, you have some very hard work to get something don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swimmer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ggled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hard against the big wave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t is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gg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for me to save money from my allowanc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pe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 – pend 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en you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pend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on someone or something, you count on or trust that person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pend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on my alarm clock to wake me up in the morn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kitte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pend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on its mother for food and protection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o make most words plural, you will add a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f the word ends in with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, ch, tch, ss, s,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x,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you will add a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e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f the word ends with one consonant and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, change the y to an i and add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e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124080" y="1980720"/>
            <a:ext cx="3283200" cy="461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buddi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job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hour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dish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supplies 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classmat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mess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lunch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chor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19320" y="2133720"/>
          <a:ext cx="3470040" cy="411480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            switc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s          switch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          bab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      bab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y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rumb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ies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uppl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 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entur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876920" y="2133720"/>
          <a:ext cx="2819160" cy="419076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r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kat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aw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ating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ppl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assmat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ppl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assmat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hor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ppl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assmat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hor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sses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ppl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tunes had many note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un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had man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I will read the stories to the bab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I will read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ori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to the bab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We did not switch lunche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We did not switch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unch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babies like hearing the same stor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abi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like hearing the same stor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thor’s 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085480"/>
            <a:ext cx="7786800" cy="461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An author has a reason for writing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He or she might write to explain or inform, entertain, express feelings, or convince the reader to think or act a certain wa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As you read, ask yourself what the story is about and why the author might have written it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Notice if the story is funny, serious, or sad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g Question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n should we work together?  When should we work alone?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ory Struct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Story structure is how the story is put together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It includes setting, plot, and character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Each piece of the story is needed to make it whole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Paying attention to story structure as you read helps you to understand the stor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As you read, notice where and when the story takes place.  Notice who the characters are and how they act. Notice what is happening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895480" y="2133720"/>
          <a:ext cx="3470400" cy="437184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3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op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ig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ough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ared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robabl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hal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leas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905120" y="2085840"/>
            <a:ext cx="2597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frien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ign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love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hall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full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bought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52520" y="2085840"/>
            <a:ext cx="351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too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probably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oor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pleasant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never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care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ure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mill – a building where grain is crushed into flour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musician – someone who plays music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excitement – a feeling of being very happ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robbers – people who stea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monsters – scary creature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rist Mil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1" name="Picture 13" descr="Mill_StoneLogo500H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2286000"/>
            <a:ext cx="1828800" cy="1701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5" descr="brewster_grist_mi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81280" y="2209680"/>
            <a:ext cx="2362320" cy="17766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MillHopper-74045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080" y="4267080"/>
            <a:ext cx="1779840" cy="2362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grinding_mil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18240" y="4267080"/>
            <a:ext cx="1849320" cy="2210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1" descr="w-mabry%2520mil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3520" y="2209680"/>
            <a:ext cx="2438280" cy="1833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9" descr="mi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09880" y="4267080"/>
            <a:ext cx="19116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80880" y="21337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pic>
        <p:nvPicPr>
          <p:cNvPr id="289" name="Picture 5" descr="Musician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133720"/>
            <a:ext cx="1576440" cy="24382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musicia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60600" y="2133720"/>
            <a:ext cx="1711440" cy="2438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musicia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469584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3" descr="gen-musicia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11920" y="2133720"/>
            <a:ext cx="1951200" cy="2438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5" descr="fourfingeredPianist"/>
          <p:cNvPicPr/>
          <p:nvPr/>
        </p:nvPicPr>
        <p:blipFill>
          <a:blip r:embed="rId9"/>
          <a:stretch/>
        </p:blipFill>
        <p:spPr>
          <a:xfrm>
            <a:off x="4724280" y="2133720"/>
            <a:ext cx="1690920" cy="2438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7" descr="drummer"/>
          <p:cNvPicPr/>
          <p:nvPr/>
        </p:nvPicPr>
        <p:blipFill>
          <a:blip r:embed="rId10"/>
          <a:stretch/>
        </p:blipFill>
        <p:spPr>
          <a:xfrm>
            <a:off x="3581280" y="4724280"/>
            <a:ext cx="2514600" cy="19335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9" descr="DW_FON_06Trinidad01_md"/>
          <p:cNvPicPr/>
          <p:nvPr/>
        </p:nvPicPr>
        <p:blipFill>
          <a:blip r:embed="rId11"/>
          <a:stretch/>
        </p:blipFill>
        <p:spPr>
          <a:xfrm>
            <a:off x="6858000" y="472428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Donkey was tired of working at the ___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Donkey was tired of working at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ll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One day three furry ____ scared Donkey and stole all the grain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One day three furry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ster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scared Donkey and stole all the grain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Oh, no!  Those ___ took everything!” Donkey crie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Oh, no!  Thos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obber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took everything!” Donkey crie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Donkey was surprised when his owner danced with ____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Donkey was surprised when his owner danced with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citement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Now we don’t have to work, and we can become ____!” said Donkey’s owner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Now we don’t have to work, and we can becom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sician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!” said Donkey’s owner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ily Fix-I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10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eff"/>
                </a:solidFill>
                <a:latin typeface="Arial"/>
              </a:rPr>
              <a:t>he at good food on the fam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603360" indent="-603360">
              <a:spcBef>
                <a:spcPts val="10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9100"/>
                </a:solidFill>
                <a:latin typeface="Arial"/>
              </a:rPr>
              <a:t>He ate good food on the farm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603360" indent="-603360">
              <a:spcBef>
                <a:spcPts val="1001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eff"/>
                </a:solidFill>
                <a:latin typeface="Arial"/>
              </a:rPr>
              <a:t>but he was’nt at the farm now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603360" indent="-603360">
              <a:spcBef>
                <a:spcPts val="1001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9100"/>
                </a:solidFill>
                <a:latin typeface="Arial"/>
              </a:rPr>
              <a:t>But he wasn’t at the farm now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60020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f0e30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metimes we need help when we’re working toward a goal or trying to solve a problem.  When should we work together?  When should we work alone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 plural noun names more than one person, place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Some nouns change to a different word when they are made plural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wolf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wolve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man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men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Write about a time when you worked closely with another person.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8" name="Picture 19" descr="1558586946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229600" y="5791320"/>
            <a:ext cx="49356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60020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rning Warm-Up</a:t>
                      </a:r>
                      <a:r>
                        <a:rPr b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day we will read about Bat.  Bat is alone and sad.  What might make Bat feel better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60020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rning Warm-Up</a:t>
                      </a:r>
                      <a:r>
                        <a:rPr b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day we will read about Bat.  Bat is alone and </a:t>
                      </a:r>
                      <a:r>
                        <a:rPr b="1" i="1" lang="en-US" sz="3200" spc="-1" strike="noStrike">
                          <a:solidFill>
                            <a:srgbClr val="cf0e30"/>
                          </a:solidFill>
                          <a:latin typeface="Arial"/>
                        </a:rPr>
                        <a:t>sad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.  What might make Bat feel better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01800" y="708120"/>
            <a:ext cx="73548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3520" y="2285640"/>
            <a:ext cx="65660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new amazing word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r-controlled </a:t>
            </a:r>
            <a:r>
              <a:rPr b="1" i="1" lang="en-US" sz="3200" spc="-1" strike="noStrike">
                <a:solidFill>
                  <a:srgbClr val="c1ceff"/>
                </a:solidFill>
                <a:latin typeface="Arial"/>
              </a:rPr>
              <a:t>er, ir, ur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plural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homophones, and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plural nouns that change spelling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01800" y="876240"/>
            <a:ext cx="7354800" cy="9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828800" y="38098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milia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 – mil – i – ar  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omething or someon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miliar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to you is well known or close to you from repeated contact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t was nice to be home in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miliar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place after travel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By the end of the year, I will b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miliar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with my entire clas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si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– sist   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en you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sist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, you are making a demand or taking a stan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Mom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sisted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that I finish my homework before watching TV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Your best friend will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sist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that you come to her birthday party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60020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f0e30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metimes we need help when we’re working </a:t>
                      </a:r>
                      <a:r>
                        <a:rPr b="1" i="1" lang="en-US" sz="32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toward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a goal or trying to solve a problem.  When should we work together?  When should we work alone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ur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de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ur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de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ur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rviv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1800" y="708120"/>
            <a:ext cx="73548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2285640"/>
            <a:ext cx="65660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new amazing words,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plurals,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author’s purpose,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plural nouns that change spelling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de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dba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ur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rviv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895480" y="2133720"/>
          <a:ext cx="3470400" cy="437184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3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op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ig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ough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ared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robabl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hal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leas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is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ant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dream—a dream about going on a picnic or a dream about a monster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happens when you ar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ared—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you smile or your heart beats quickly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wil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ably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happen—you will see a unicorn or you will see a dog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might b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ought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at a store every week—a dance or a loaf of bread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will mos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op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choose to drink—a cup of oil or a cup of water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might you see on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gn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— “35 miles per hour” or pictures of snowflakes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is something you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ll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do later today—homework or grade tests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219320" y="2133720"/>
          <a:ext cx="3470040" cy="411480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            switc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s          switch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          bab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      bab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y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rumb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ies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uppl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 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entur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4876920" y="2133720"/>
          <a:ext cx="2819160" cy="419076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r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kat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aw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ating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ophon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mophon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is a word that sounds the same as another word, but has a different meaning and is spelled differently.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dog felt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ak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dog walked for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ek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ophon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know – no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be – bee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here – hear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there – their – they’re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te  - eigh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unt – an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see - sea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ily Fix-I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56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560520" indent="-560520">
              <a:spcBef>
                <a:spcPts val="11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he red a dog storie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60520" indent="-560520">
              <a:spcBef>
                <a:spcPts val="11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He read a dog story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60520" indent="-560520">
              <a:spcBef>
                <a:spcPts val="11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he new other storys too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60520" indent="-560520">
              <a:spcBef>
                <a:spcPts val="11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He knew other stories too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6052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1ceff"/>
              </a:solidFill>
              <a:latin typeface="Arial"/>
            </a:endParaRPr>
          </a:p>
          <a:p>
            <a:pPr marL="560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  <a:p>
            <a:pPr marL="560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  <a:p>
            <a:pPr marL="560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singular noun names one person, place, animal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plural noun names more than one person, place, animal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ome nouns change spelling to name more than on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86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mouse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ate the cheese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mice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ate the cheese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woman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smiled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women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smiled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child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played on the swings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children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played on the swings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09:37:15Z</dcterms:modified>
  <cp:revision>22</cp:revision>
  <dc:subject/>
  <dc:title>Slide 1</dc:title>
</cp:coreProperties>
</file>